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2BD3-EA1E-45E1-8C2C-92A2A664E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EFBD-275F-448F-A30D-241E79F22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521-76C2-406A-B598-1405042EB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ECFA-DECF-4593-A0F5-DED752809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0F28-641B-4CA0-B65F-701B226B6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63E-4646-4019-9E8E-BB83F20D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1CBB-C869-4712-B795-9F196DB5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F60-E233-4B2C-8E88-152033A8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372-6480-42E6-947E-039868FC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519-111E-4038-82FB-9B820009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E3A-99ED-43A8-BDE2-FF901B36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95C-77B2-4209-96FC-92587B11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DCF-F5DA-48F0-BA5C-C32A0BF4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77C-8401-47BC-93FA-B83729F4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223-92C2-468F-842A-B7705882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1D8-FD32-4531-94C3-1F586618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3F0-92CF-4266-A4BE-12730A4E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A09-F018-4256-B851-5252DD3C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3CA-6328-47CB-86AF-ECF3B59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5A62-EA66-406D-ADA2-94D8495A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go-kids.grolier.com/splash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 rot="21139200">
            <a:off x="17280" y="884160"/>
            <a:ext cx="83055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extile"/>
              </a:rPr>
              <a:t>Daring Dictionary Skill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extile"/>
              <a:ea typeface="Textile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5029200" y="4495680"/>
          <a:ext cx="335268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495680"/>
                    <a:ext cx="33526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3200400" y="1905120"/>
          <a:ext cx="2924280" cy="42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905120"/>
                    <a:ext cx="292428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0" y="594216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 Ricks, 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in Hickory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nrico County Public Schools, Glen Allen, 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304920" y="2286000"/>
          <a:ext cx="2043000" cy="20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2043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2438280" y="1219320"/>
            <a:ext cx="5943600" cy="6151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ction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uidebooks; They tell how words are used by people. It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t gives information abou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ies have new words like Internet, login, and website and old-fashioned words like “steed” which means horse.  Some dictionaries have special purposes like a medical or a sports dic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ies are arrang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phabet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762120" y="1523880"/>
          <a:ext cx="14256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14256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457200" y="4038480"/>
          <a:ext cx="1676520" cy="10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038480"/>
                    <a:ext cx="167652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5"/>
          <p:cNvSpPr/>
          <p:nvPr/>
        </p:nvSpPr>
        <p:spPr>
          <a:xfrm>
            <a:off x="2666880" y="1219320"/>
            <a:ext cx="6172200" cy="22885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ference book containing words, usual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phabet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nged along with information about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nunci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666880" y="3886200"/>
            <a:ext cx="6172200" cy="2288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ference book listing terms or names important to a particular subject along with a discussion of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 sample sentence is often inclu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613160" y="27468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ictionary i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98108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Dictio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120" y="990720"/>
            <a:ext cx="73152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abrid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t shorten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 large, extensive dictionary that is not based on a larger edition.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brid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 dictionaries attempt to conta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ds in the English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id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o abbreviate; to lessen in length; to shorten by using fewer words but keeping the main contents. 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brid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ctionary contains words in commo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14600" y="3962520"/>
            <a:ext cx="5105520" cy="2113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s of Dic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, geographical, law, sports, biographical, rhyming, medical,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457200" y="4267080"/>
          <a:ext cx="17254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67080"/>
                    <a:ext cx="1725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8"/>
          <p:cNvSpPr/>
          <p:nvPr/>
        </p:nvSpPr>
        <p:spPr>
          <a:xfrm>
            <a:off x="2922840" y="59436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take a closer lo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9" descr="eyespy"/>
          <p:cNvPicPr/>
          <p:nvPr/>
        </p:nvPicPr>
        <p:blipFill>
          <a:blip r:embed="rId3"/>
          <a:stretch/>
        </p:blipFill>
        <p:spPr>
          <a:xfrm>
            <a:off x="7238880" y="5334120"/>
            <a:ext cx="1463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04920" y="304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up close look at a dictiona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562720" y="15238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ate           life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781680" y="1752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72200" y="609480"/>
            <a:ext cx="25909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d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 flipH="1">
            <a:off x="6144120" y="1091880"/>
            <a:ext cx="7635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7543800" y="1066680"/>
            <a:ext cx="307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981080" y="25909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ye-brer-e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ce where books, magazines, newspaper, tapes and videos are kept for reading or borrowing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33520" y="2590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-brar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209680" y="42670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great reference section in ou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1270080" cy="1587240"/>
          </a:xfrm>
          <a:prstGeom prst="rect">
            <a:avLst/>
          </a:prstGeom>
          <a:ln w="0">
            <a:noFill/>
          </a:ln>
        </p:spPr>
      </p:pic>
      <p:sp>
        <p:nvSpPr>
          <p:cNvPr id="81" name="Line 14"/>
          <p:cNvSpPr/>
          <p:nvPr/>
        </p:nvSpPr>
        <p:spPr>
          <a:xfrm>
            <a:off x="533520" y="1905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" y="1371600"/>
            <a:ext cx="1295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2438280" y="21337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1981080" y="1523880"/>
            <a:ext cx="2286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u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8"/>
          <p:cNvSpPr/>
          <p:nvPr/>
        </p:nvSpPr>
        <p:spPr>
          <a:xfrm flipH="1" flipV="1">
            <a:off x="2968200" y="4730040"/>
            <a:ext cx="1683000" cy="90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124080" y="5410080"/>
            <a:ext cx="39625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ple sentence/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0"/>
          <p:cNvSpPr/>
          <p:nvPr/>
        </p:nvSpPr>
        <p:spPr>
          <a:xfrm flipV="1">
            <a:off x="4076280" y="2376720"/>
            <a:ext cx="897480" cy="39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4800600" y="2286000"/>
            <a:ext cx="26668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 of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2"/>
          <p:cNvSpPr/>
          <p:nvPr/>
        </p:nvSpPr>
        <p:spPr>
          <a:xfrm flipH="1" flipV="1">
            <a:off x="2213640" y="3579120"/>
            <a:ext cx="14472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80880" y="6019920"/>
            <a:ext cx="8305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 the many definitions a word may h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3733920" y="46483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un, plural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braries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un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5"/>
          <p:cNvSpPr/>
          <p:nvPr/>
        </p:nvSpPr>
        <p:spPr>
          <a:xfrm>
            <a:off x="-65880" y="5334120"/>
            <a:ext cx="2375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380880" y="4800600"/>
            <a:ext cx="3812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990720" y="2438280"/>
            <a:ext cx="7696080" cy="1312920"/>
          </a:xfrm>
          <a:prstGeom prst="rect">
            <a:avLst/>
          </a:prstGeom>
          <a:solidFill>
            <a:srgbClr val="fbe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sk: Take the Dictionary Qui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484360" cy="2535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>
            <a:hlinkClick r:id="rId2"/>
          </p:cNvPr>
          <p:cNvSpPr/>
          <p:nvPr/>
        </p:nvSpPr>
        <p:spPr>
          <a:xfrm>
            <a:off x="567000" y="609588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Visit Grolier’s Online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2:43:56Z</dcterms:created>
  <dc:creator>Henrico County Public Schools</dc:creator>
  <dc:description/>
  <dc:language>en-US</dc:language>
  <cp:lastModifiedBy>Bakri</cp:lastModifiedBy>
  <cp:lastPrinted>2007-02-12T13:15:22Z</cp:lastPrinted>
  <dcterms:modified xsi:type="dcterms:W3CDTF">2013-01-15T04:58:50Z</dcterms:modified>
  <cp:revision>62</cp:revision>
  <dc:subject/>
  <dc:title>No Slide Title</dc:title>
</cp:coreProperties>
</file>